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CEC4-9C48-4667-B710-468ACE1A67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69AF-38C4-4CE5-8A16-171A6F0CAD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72C0-DB98-45EE-8BEF-495F50F8AB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B0FB-ED2E-43B6-BB20-E48A53E961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CA49-9970-4BB4-BB1D-CDD40A498F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D4AB-53E5-44B7-A14F-45F4894E83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6C6E-13BF-4887-B6EF-270F9BA1BF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108D-4479-459D-9C03-681CBF62D5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228C-59B1-459B-A945-961F145867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304B-BA3C-4DBE-BDA1-B974F2B230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01D0-9990-4ECB-9292-8B4F39F11D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F805-6886-4E74-8CC6-9ED9A2EEC5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CA01-3923-418B-BBC9-ACC6ACB7F5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F33-56B1-419C-BA29-553F1C96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4F71-3631-4934-B132-029B3C6D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C31-7DCB-456E-9DB5-B928C793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291-0B5E-495B-AABB-3C393641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2CBB-8298-48B3-BC88-F7DA31B7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1500-F7AB-4CF7-B1E3-DDCBAC16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0B4C-E8D5-4688-B723-5FEEBE75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6389-CA2C-45FA-9DD5-0E13972F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2036-3BBE-4006-BD6F-F1EAAF73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D7E8-01C3-4760-8166-08882B3D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0343-0575-4480-BB10-1010FC99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1159-B496-4808-96CC-1FC0FD01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7C9F-99EB-4D3A-B381-A882B3FB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3898-39A6-402A-A5C5-799E8DB1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CEF0-35EF-41A9-8755-C1B738F1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F2B2-C473-41BF-B94F-7B992AA7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DF47-296C-49AF-AAB9-6E1B24FB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D6F-B154-4F11-9271-D97815ED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81BC-9526-4060-98E8-B3686828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1F0-8F28-4DAB-93C9-F95121EA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9E9-6307-4910-B936-E413188F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A60C-4828-4EAA-BA51-74406CAE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832-B8E3-42F0-BED5-63A1F18D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54C7-E72D-4994-9B6A-DCF3D0C8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96C3-C488-4C5F-9B6C-4C3158FCF4D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AAEE-39B3-4CA3-9F8B-5E49B6F344F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920" y="3068640"/>
            <a:ext cx="7871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Правила и нормы эффективного общения</a:t>
            </a:r>
            <a:br>
              <a:rPr sz="4000"/>
            </a:br>
            <a:br>
              <a:rPr sz="35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Базалий Р.В. –доцент кафедры ТиМПО, канд.пед.наук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успешное ведение переговоров"/>
          <p:cNvPicPr/>
          <p:nvPr/>
        </p:nvPicPr>
        <p:blipFill>
          <a:blip r:embed="rId1"/>
          <a:stretch/>
        </p:blipFill>
        <p:spPr>
          <a:xfrm>
            <a:off x="179280" y="40464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ак аудитория воспринимает твое общение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6" name="Picture 4" descr="как аудитория воспринимает твое общение"/>
          <p:cNvPicPr/>
          <p:nvPr/>
        </p:nvPicPr>
        <p:blipFill>
          <a:blip r:embed="rId1"/>
          <a:stretch/>
        </p:blipFill>
        <p:spPr>
          <a:xfrm>
            <a:off x="1042920" y="1484280"/>
            <a:ext cx="6767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Picture 4" descr="ten3_polls_communication_2sl_6x4"/>
          <p:cNvPicPr/>
          <p:nvPr/>
        </p:nvPicPr>
        <p:blipFill>
          <a:blip r:embed="rId1"/>
          <a:stretch/>
        </p:blipFill>
        <p:spPr>
          <a:xfrm>
            <a:off x="755640" y="1197000"/>
            <a:ext cx="7272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«Смысл общения не в том, какое сообщение ты посылаешь, а в том, какой ответ ты получаешь».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ты получил не тот ответ, к которому стремился, значит ты послал неправильное сообщение. Постарайся изменить свое сообщение таким образом, чтобы получить тот ответ, который тебе нужен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на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чего ты хочеш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скро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стинный смысл ответа, который ты получаеш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змен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вое сообщение, пока не достигнешь желаемого результа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ше восприятие мира не есть сам ми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ы видим мир не таким, каков он есть, а таким, каким он нам кажется через призму наших верований, знаний и системы ценностей, пройдя предварительно через другую призму органов чувств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ще одна проблема человека в общении с другими- это нежелание понять позицию собеседник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Picture 4" descr="communication_reality_map_6x4_ru"/>
          <p:cNvPicPr/>
          <p:nvPr/>
        </p:nvPicPr>
        <p:blipFill>
          <a:blip r:embed="rId1"/>
          <a:stretch/>
        </p:blipFill>
        <p:spPr>
          <a:xfrm>
            <a:off x="468360" y="981000"/>
            <a:ext cx="84978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АСИБ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ужно уметь благодарить люде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ru-RU" sz="3000" spc="-1" strike="noStrike">
                <a:solidFill>
                  <a:srgbClr val="6666ff"/>
                </a:solidFill>
                <a:latin typeface="Arial"/>
              </a:rPr>
              <a:t>спасибо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тивирует людей  на достижение чего-то более высокого. И наоборот, "пинок под зад заставляет почесать ушибленное место, но не приближает к желаемому результату", как говорила Элла Виле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719360"/>
          <a:ext cx="8229600" cy="480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самых важных сл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совершил ошибку и признаю эт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амых важных сл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 сделал очень хорошую работ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амых важных слов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всегда рад помоч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амых важных слов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во твое мнение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амых важных слов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е спасиб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амое важное слов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наименее важное слов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54380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Грасиан Бальтасар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9" name="Picture 4" descr="Грасиан Бальтасар"/>
          <p:cNvPicPr/>
          <p:nvPr/>
        </p:nvPicPr>
        <p:blipFill>
          <a:blip r:embed="rId1"/>
          <a:stretch/>
        </p:blipFill>
        <p:spPr>
          <a:xfrm>
            <a:off x="1332000" y="1413000"/>
            <a:ext cx="5616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сказывания Гарсиана Бальтасар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огда не спеши и не горячись. Научись управлять собой, тогда сможешь управлять другими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гда ведешь разговор или спор, веди его так, как если бы ты играл в шахмат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творное сомнение – наилучший ключик, с помощью которого любопытство раскрывает все, что пожелае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всегда возражай на возражения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ерегово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ажным фактором успешного общения является умение вести переговор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0:22:22Z</dcterms:created>
  <dc:creator>Будашкина Екатерина</dc:creator>
  <dc:description/>
  <dc:language>en-US</dc:language>
  <cp:lastModifiedBy>Базалий Раиса Викторовна</cp:lastModifiedBy>
  <dcterms:modified xsi:type="dcterms:W3CDTF">2015-12-10T06:31:21Z</dcterms:modified>
  <cp:revision>4</cp:revision>
  <dc:subject/>
  <dc:title>Правила и нормы эффективного общения.</dc:title>
</cp:coreProperties>
</file>